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318-A42C-436B-A20B-F701EE5D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2FE-A9FC-4380-BB27-46D97349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70C90-4DEF-4D3E-B601-36F0EA8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A2751-CED3-4BED-A52D-382349B4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08D8-4F48-46D1-99F3-40ABB88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09DE6-6B30-4349-8650-88B5593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AE3DA-7025-4B72-A438-9ED7A38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AF599-93E6-4798-92BC-5DBA01B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460A-059D-4AC7-860D-D2AAB03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17C4E-72A9-4583-A00E-55DD4E5B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182D-E898-41FC-81D1-2CBE023D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172D8-856A-42FB-B96C-D187A950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A86-28CB-4CEE-AE64-06B2143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DE17E-2C91-4A4C-A737-5B377D3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28D82-89C0-4C80-8B10-8FCEE7B5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78DB6-0FB9-46CD-AF2B-6A3E885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9732E-C4B0-46DF-87B1-576B780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05B78-0779-4645-A1E8-450A522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167CD-1C32-4E69-8693-32D32D2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E4BB5-EAF4-4AD3-ACD9-0F0C9C8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4AA08-9B23-45EE-9A43-F39FC84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178BB-A297-4080-A132-A7C60BC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B78B5-DAFC-4920-817F-0A35ACDE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2F1-3BCC-47A3-86D5-4CBB116D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15C96-3DB4-453D-AAC0-172ED069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B209-D224-4ECD-AF2A-919F9F46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35D6-6BC4-481A-AC5D-697FB070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1948D-812C-4C9A-ACFA-9F14CF3F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6286-419A-4D6E-AAF7-B770DDC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A3C3-CE2F-4240-BAF8-3E7858F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37880-C223-4C8C-A96D-507FB93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FD5D6-253C-4AE4-BCEB-EE2FDCE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69143-977F-4735-ACEF-F98C782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AA097-57CB-4EE8-BFB8-14B37E4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6CD-E179-441E-AFB5-E26F0962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C2C4F-E5D3-4DDB-BA7B-AC2D7C06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7ED5-DCD5-499A-81A1-A876DAC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13D6-D178-433F-954D-E81055A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B2A4D-4312-40FF-8C06-BB3C60AA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55258-EEB1-4A31-B8E7-C2DDA858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77BD-9CEE-4480-AD4A-68A8C3C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E1513-9929-4563-AF59-3741985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F2D8-C9B2-4823-A930-654180F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532BB-7997-4487-BF62-09B1E84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14696-8F35-45A6-B91C-0E50500C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117-CF1B-45CD-A806-F7BBBDE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EAFC1-93C2-4B06-804D-E857194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A37F-676E-42E4-A1C2-FC4DC07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0EF1A-E403-4451-B969-7D3B353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5AFFD-FBA2-4721-9B35-D385628D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3C09A-9B85-46B4-90ED-B6C0E30E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350A-8A6B-40F9-BBF2-5FCB340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2A8-0A6C-4637-A3B9-F0330C29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3C88-208C-4B80-83D5-7BEB1C1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5C38-63AC-466A-9158-2E64698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71AD-C96A-41B2-8110-BBBFF14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7F2-A413-4C8F-9619-D1807A5C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7633-2AB1-4C6C-8955-68AD3B8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2E5-0674-4FD8-B685-FACA3F1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14C2-C6EB-4589-B668-D9B47CB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92FB-56A8-4974-BE46-5F4178E4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6FFE-C474-492D-8663-03989A43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780B-CEC3-4689-B7C3-4FE20F68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3E2C-AA2A-4ACE-92D7-66DCF9C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882C-CF62-41C6-8DE5-8652B8C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CC17-B36B-4A98-883E-9BD8BEF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5AE8-59CE-44BB-AA19-991FA8F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DF6-431E-4ADE-97BA-93846BB9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8F88-8881-466D-8986-0E962F60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CDB9-A224-4594-A3BA-BD67631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7D0E-5D77-47C0-B75D-1F21E40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5F28-9069-44B0-913C-83A0E41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ED17-6428-4861-B9E1-2B9B02F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6D2C-3FAD-4C08-B063-7F6518A7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9B2A-550F-4E3C-814A-9FBCA284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12FF-A17E-425E-99F3-67B89A54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900A-F335-44E7-8D40-CB9583A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713F-DACB-4B52-AB0B-416AEC9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176-5F43-4147-948E-A93B81BD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CD51-97C4-4360-AD31-B507931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4E51-C6DA-4AFE-A7A1-7D6CDD5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94F5D-1D44-4FE7-920D-2195A9C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D6F1-BAC0-4F1B-AF06-AB853B6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EFB3-EFD2-47E6-9FF6-674F5C6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3211-95C5-46C4-929B-7EA5149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1B28-12CD-465D-AD44-C81269A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0542-8853-4B69-BBED-3408EE5C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E367-798C-4B50-A8A3-E9B03E8E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8FD96-E0E8-4D04-879F-1DCC3B9B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3FC-09FB-4152-8E7F-02792A73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4DFA-AFA7-4C5D-BCEC-466C411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C34E-8E0C-4A80-9BC8-2F4C69A9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451F-CB8E-406D-939F-79C87E3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DC6E-5F16-4F27-98D4-525D31A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7C72-D338-4F63-8CB5-F82500C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511C-D2FE-4EAC-850B-1343276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EDB68-7776-4613-9761-8510876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DA08-0CB7-42CB-AC58-6D5063F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450F-D5BF-40FB-B1FA-4318860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A95F-52A7-4228-AB3C-41888DAC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E10-EA62-4A55-BD75-A3DB6D5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FD21-EC23-4977-8AC0-28314783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8D25-8B33-4AF1-A749-6B576739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1990-7E40-4358-A57A-610ECE3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F876-1C88-4FA5-B294-4FFC0B0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C3850-124B-47B0-8231-C6985DFF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EB99-01C8-45DB-B893-695FDAA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8A8E-EADC-4647-AAD6-0D47B1C1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B2284-86CB-4701-9CF6-77B2EE2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438B-F88E-4C42-869F-27760A4D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B1D9-1D6C-4300-9CA1-DE7934F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DE6-5F88-48FF-9F7A-1C56DEB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3BC5-8A9C-4CDF-B528-8E5DDE87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40FA-D80F-4897-B270-A9DC6C0E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A1E3-8BD1-4F56-9ED2-E4D548FA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D9E4-E339-4AE9-BB98-198844C2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BC6B-B601-4334-9388-E2A4FA6C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11AB-0C3B-4F01-92FC-FB9724B6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985C-1E0B-4E3C-8587-99F2C81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482D-49DA-44E5-A047-8764145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2B22-1BA0-419D-A967-08CCA20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7C5D-84DB-4BBB-8F1E-08CABFD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A5B-A0ED-4564-A89E-A89F577A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94EE-9199-40E4-B41C-7912F58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75B8-3C8A-47E6-A8B1-FA36EA28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77B6D-B264-4345-8F22-AABBC111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A1BF-C609-4CE0-B117-682A32E7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541D-96F3-4EC6-9FE0-61688D31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76288-8381-474C-9D57-A404EF4F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D102-486C-4A35-9971-4CEEAB4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6EA7B-64EC-4DF0-B451-D16C2CB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2E53C-89F1-408B-B3B0-FA27460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C0BAD-59A5-46AE-8BF7-A3ABF450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0D3-AC33-4095-9E74-C19E528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8DE78-F048-4E1F-936C-D499EBF7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008D9-3E29-4145-9355-0971530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E1563-A3EC-4810-997C-7F7ECAA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66D00-1886-4715-AC12-319FC9D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C08A-28A9-42E9-84E5-2C69013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60C9-94A0-4E4D-A345-8E455477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6169-A7DB-4F96-839A-75D36A6A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EC3F8-3705-4B86-839E-648C024A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C5CCB-E845-4D40-95E8-693D92E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44193-6E8E-45BE-BD13-88D70F1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E74-D5F1-43E9-9968-40A37BBFFD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504B-8CE0-4996-9DAE-2A0DBD5C83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527-9DBC-4C67-B51A-9EA88295EC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166-6685-4D94-8C25-BAA1AF5D00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45E-E91B-478E-8FE7-8C3B8E80B3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C19-61C1-4B94-A13E-7500F4F444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24C-2003-4231-B8F0-A8780B4B2F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261-990F-43E4-9610-F07050CA58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03F5-50DD-4BD4-B161-2480D09944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3D9-5AFF-45E5-BE65-7D4D179EFB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4B3A-9758-45E8-962E-86178A957F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903-03F6-42A4-B8B9-58E1ADA05D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4 V Synovi k nám Boh sám sa zn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ynovi k 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Boh sám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zní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n ľudí má tak veľmi r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 uverí a k nemu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a jeho lásku ver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náš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án slávne stvrdil svojím vzkriesení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iež Božia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čo mŕtvych kries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ebudí nás v deň vzkrieseni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esmírom n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ozveno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áš vďačný chválospe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il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náš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án slávne stvrdil svojím vzkriesen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42:21Z</dcterms:modified>
  <cp:revision>24</cp:revision>
  <dc:subject/>
  <dc:title>Je veľký náš Pán, on slávy je Kráľ Nech do všetkých strán  spev vrúcnych znie chvál.</dc:title>
</cp:coreProperties>
</file>